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B20-094C-499E-A935-73B8AD89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9AC-AD81-4EF1-ACC3-AB5BFBC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12F-D486-42A0-9FA6-C3B63D65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58A-708B-4420-923F-E20071B9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541-42B4-428B-9443-1E0C5558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ECED-A531-4DED-BFF1-DB9810A9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C3B7-1C3E-4F1E-90B8-3C29FBD9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746-B22A-4838-9A85-3C70C68F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64BC-90F1-4CD5-963F-465E595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50C9-B00D-4FD1-B82E-D58DEAA3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5242-BAA1-424A-B35D-111A277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335-3ABB-4F1A-B910-A69796A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DC4E-2142-4A63-AD44-B498BC36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F6F-38AD-42E9-9372-E91472E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6681-36EF-47CB-8E3C-728B4804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AE5-30B6-47C4-96AC-B508CCD5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B65E-4763-485D-BAF9-7815CA85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649-3CEE-4642-8F78-EC64681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7E6-6EDC-4A06-A2EC-737D0F79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B86-C7CE-4063-B971-F502307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A6F-F791-43DD-AAEC-BCA6FB97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00B-4F2D-4276-9E5A-6E9AD34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FDC-ECB9-4686-8FD4-8F3B2EB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FA8-21F0-4DC7-9EBF-C2D5141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5A4-DF10-4583-948C-47DCD9D57E4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9B1-3E07-4E88-BCB0-0247BAA754D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本指令的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000" y="0"/>
            <a:ext cx="4852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1560" y="1556280"/>
            <a:ext cx="37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532720" cy="2157480"/>
          </a:xfrm>
          <a:prstGeom prst="rect">
            <a:avLst/>
          </a:prstGeom>
          <a:ln w="0">
            <a:noFill/>
          </a:ln>
        </p:spPr>
      </p:pic>
      <p:pic>
        <p:nvPicPr>
          <p:cNvPr id="209" name="03d08" descr=""/>
          <p:cNvPicPr/>
          <p:nvPr/>
        </p:nvPicPr>
        <p:blipFill>
          <a:blip r:embed="rId2"/>
          <a:stretch/>
        </p:blipFill>
        <p:spPr>
          <a:xfrm>
            <a:off x="1924200" y="2376360"/>
            <a:ext cx="234288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64240" y="2405160"/>
            <a:ext cx="2457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8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两层栈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2320" y="4138920"/>
            <a:ext cx="264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二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第二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Y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24200" y="23763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6800" y="4221360"/>
            <a:ext cx="16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341964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20" y="1483560"/>
            <a:ext cx="257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459640" cy="1733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8040" y="3787920"/>
            <a:ext cx="370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N0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主控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线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     N0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29280" y="3724200"/>
            <a:ext cx="3240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6545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05120" y="3943800"/>
            <a:ext cx="377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程序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452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120" y="15562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17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9440" y="4007160"/>
            <a:ext cx="361872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3274"/>
          <a:stretch/>
        </p:blipFill>
        <p:spPr>
          <a:xfrm>
            <a:off x="4788000" y="4149720"/>
            <a:ext cx="388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44240" y="4507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编程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080" y="2133720"/>
            <a:ext cx="22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0" y="2563200"/>
            <a:ext cx="103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留出一定的空间，待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某些接点或电路短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切断某些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换部分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" y="4075920"/>
            <a:ext cx="209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557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6160" y="5057640"/>
            <a:ext cx="18860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双线圈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程序的优化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程元件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0" y="90180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5003640" cy="2982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41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981680" y="5024520"/>
            <a:ext cx="3924360" cy="136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205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飞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键离合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曲柄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6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滑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7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8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9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0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位弹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磁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衔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程开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凸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480" y="155628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曲柄压力机及常规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4292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拟曲柄压力机硬件接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及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5182920" cy="4124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0" t="3377" r="31144" b="16179"/>
          <a:stretch/>
        </p:blipFill>
        <p:spPr>
          <a:xfrm>
            <a:off x="5076720" y="1628640"/>
            <a:ext cx="4067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合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4360" y="2870280"/>
            <a:ext cx="4824360" cy="398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57890" t="49861" r="-2829" b="7991"/>
          <a:stretch/>
        </p:blipFill>
        <p:spPr>
          <a:xfrm>
            <a:off x="4427640" y="1484280"/>
            <a:ext cx="42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断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2851200"/>
            <a:ext cx="4824360" cy="4006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59141" t="45332" r="-1000" b="11161"/>
          <a:stretch/>
        </p:blipFill>
        <p:spPr>
          <a:xfrm>
            <a:off x="4500720" y="1347840"/>
            <a:ext cx="40320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63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模块三</a:t>
            </a:r>
            <a:br>
              <a:rPr sz="3200"/>
            </a:b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  基本逻辑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4880" y="69228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052880" y="0"/>
            <a:ext cx="3090960" cy="664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6880" y="3056400"/>
            <a:ext cx="15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-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，写出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5205240" cy="684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3320" y="-473400"/>
            <a:ext cx="60696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0033"/>
                </a:solidFill>
                <a:latin typeface="Arial"/>
              </a:rPr>
              <a:t>模块三  基本逻辑指令及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1960" y="1558800"/>
            <a:ext cx="326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0640" y="378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指令一览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95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指令表绘出下列程序的梯形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8520" y="1549800"/>
            <a:ext cx="254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0880" y="1559160"/>
            <a:ext cx="162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6880" y="1629720"/>
            <a:ext cx="162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960" y="227664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556640"/>
            <a:ext cx="4305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19880" cy="216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4376880"/>
            <a:ext cx="3095640" cy="2481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4394160"/>
            <a:ext cx="332424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54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463920" cy="193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24600" y="2928960"/>
            <a:ext cx="2093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  AND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4075200"/>
            <a:ext cx="540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3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4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7080" y="2928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480" y="1556280"/>
            <a:ext cx="26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846000" y="1560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9280" y="1989000"/>
            <a:ext cx="8424720" cy="15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4760" y="3645360"/>
            <a:ext cx="36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      X007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M10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622680"/>
            <a:ext cx="3311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9880" y="2133720"/>
            <a:ext cx="8437680" cy="35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9920" y="1627920"/>
            <a:ext cx="668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1960" y="1627920"/>
            <a:ext cx="705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例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9160" y="2158920"/>
            <a:ext cx="361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X00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Y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   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    X01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     Y00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1020"/>
          <a:stretch/>
        </p:blipFill>
        <p:spPr>
          <a:xfrm>
            <a:off x="5292720" y="2205000"/>
            <a:ext cx="3065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4240" y="57960"/>
            <a:ext cx="3650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8317080" cy="114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8317080" cy="1168200"/>
          </a:xfrm>
          <a:prstGeom prst="rect">
            <a:avLst/>
          </a:prstGeom>
          <a:ln w="0">
            <a:noFill/>
          </a:ln>
        </p:spPr>
      </p:pic>
      <p:pic>
        <p:nvPicPr>
          <p:cNvPr id="188" name="03d05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3780000" cy="348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2133720"/>
            <a:ext cx="2235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 AN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43028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4280" y="280188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B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7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2200" y="16275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45964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38600" y="3859560"/>
            <a:ext cx="416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下降沿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7920" y="3774960"/>
            <a:ext cx="3419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5:30:42Z</dcterms:modified>
  <cp:revision>71</cp:revision>
  <dc:subject/>
  <dc:title>模块二  S7-200系列PLC的基本结构 </dc:title>
</cp:coreProperties>
</file>